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853-5E52-4A73-B57B-5E0166ED94C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33B-0487-4B08-9C37-533C6E63696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60D-310C-40DB-A735-43301BA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97D-E8BB-4557-8AE3-00070FB3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04024-5431-4ACB-AAF9-8638D6CC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4245D-B2AE-462F-AE83-F3A027C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F776A-2DB6-4FAF-A587-4C8658E0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77910-A9FF-4FB8-BDEB-05B909D8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8EDD0-6A8F-4431-A74C-A3C169E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A7F38-FB6A-485A-A4CF-8FCBEA2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66A27-B9CB-4642-A0B7-409FD85E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BF3BF-DC95-4AAB-8FA3-6066F0C7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C7758-03E5-4440-9617-D27206C3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00067-38AE-43CC-8D7B-C9B52572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B15-3C1E-4669-9097-9BDC1638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E3717-5721-49D9-945F-0D52C92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E8369-E683-433F-90B7-985140BA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B644A-B4D4-4746-88CF-03D36072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88AC6-C54A-4C2B-8C8B-330F8188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174E5-9EB2-4D24-8763-5C75E4E8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26A86-F72D-4358-AE35-7D0A94E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CD1E3-8653-465F-AFD1-D3AFED6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24414-020B-4A72-923A-424EABC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0A41B-93B6-4A25-AA32-1866853D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340D2-1551-46AE-A237-E47C7486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7A5-2990-4191-96BD-32AD58C2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E0DCE-440E-43BA-AB2F-EF51778D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C0587-3A82-41FE-B407-94DE587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E5C3-7F55-4F23-9F29-C0A1E13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0294-71C6-423B-A1CD-5B8E4CCE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FC2A-85ED-44A2-8A87-190FF296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46A97-A9B9-4C58-9DBB-83E2A61D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65B98-E2BD-47AF-89B8-720E595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1106-ECB9-4F6A-A577-325645C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60936-8029-44A8-B207-0B5DF9A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BF6AA-8146-4A5E-80D5-4BC723B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E1D5-91E9-46BA-9174-71ACB544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4EAD2-794B-4927-83CE-E6B55021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EE335-E23D-40FD-A595-7884AE9E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7A151-B0C8-4714-874D-CDE21588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A1FFE-079C-4081-BA84-BBADC6D6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10727-BB60-4D21-9D89-9796335C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C7E7D-A3D4-42D1-BF14-33CB90B3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669FE-F895-42D7-B69D-CBB73A06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B1B62-8C78-4576-9E64-003028A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CB114-1F39-4405-83F8-683A1B19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E536E-21B7-4DD1-8472-D1B67F0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259E-B844-4FC9-BC3F-CA0EBAD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14F66-07F1-4C46-867C-DA22445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01998-5F28-427F-88F7-620E58C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7CC08-6829-4101-B65B-E560E250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6CA74-5451-4389-AA69-B104B437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736C0-3CDA-4D69-AC1B-9E39BE5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3545-5E06-4761-9E57-FB0C7581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D2B3-E532-4CAD-9CA9-8D54C296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2893-B0D0-4632-BADA-1064794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63C9-D350-44D0-B7E4-7D69D5B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427-B7BE-43DA-9C76-5E7A568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F46-5459-4F67-BBBA-83D8C6E8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083D-BF5B-4E32-BB0B-38DEE72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177C-F42A-4D75-A5C3-54E5753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6AC-7AE7-4206-BB7B-B6B6D39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EEE7-1EEB-422C-B6AE-7DECFD6C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674F-201E-4D0C-803B-4DE80648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7A2A-5A5E-475D-A04E-5ACE8EF5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11D2-4ED3-4DD0-AFD4-8D6FF0F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885B-D005-4A8B-8FB7-D4C07DED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B3C7-C6C2-4CB4-A04E-00BB206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D636-105D-4BDB-896B-DF0A8DD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2F1-DF77-488C-80D5-2801A88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8D8C-20E9-4690-AF2C-95FE661F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A77F-8629-47DC-A7A9-E666A36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2FF0-62F1-4E7D-9BE9-6E1AD13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773E-56B6-4804-94ED-BD4D7F5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2D71-E87B-4E73-8461-21CFF649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71C5-6736-4928-AEEC-82648FF5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2B01-FA28-49F7-8812-B957C63C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BC28-3ACD-44A5-A251-4E89E628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8DC1-3FEF-4B8E-8063-9062D51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1371-1AC0-4FA9-A346-D9508AA7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844-CECF-4906-9872-F2F9CBD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D41F-1A78-49A7-B4F8-E1FBBA8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0335-3037-4A02-8DAA-582508F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17E1-FBEF-4934-817E-D7310756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26FE-3E76-4C10-8955-2BC2B52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D815-9915-4725-AE6A-5A9C2C0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212E-6F5B-4741-AC19-F7E0B418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C643-22E1-484A-BB30-2D9E406D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C809-4683-4427-9417-2F72F7CB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DFEF-4C49-4E5D-8434-88E6C83A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A8BB9-D706-4A89-9D99-4C7DC0C5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6CE-3EF7-4332-A958-7825399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B1EB-DF6F-4916-B4F6-000F765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E92BD-80B5-431A-B250-A0D65DC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9EBB-8900-4AAD-AA24-D803E82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D069-DDF9-4AC1-A0B4-4C263C7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C6E8-D5D1-49D8-81A8-89E88F7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5CA3-902C-4703-9B53-5521EF5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35F5-2914-4F14-8974-8662EA2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A32F-86EA-423B-B611-0847BD3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2327-16E0-4AE0-8668-28DFC96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95DE-5E60-4F68-892D-F1519505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94E-A2BC-469E-90C2-83934EEA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68189-A7C2-4048-8703-20071DC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E83E2-ECF3-425A-8924-8D1F38A5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C1499-7B41-4EEB-A1D6-E31272C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3B61-4E08-4280-BD5F-A1182D2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BCE9-8E06-46FB-B754-610A892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F6BB-6C4E-4467-A388-37610D1F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FD07-2983-4333-B2A8-BB22606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E5ED1-999C-4B4A-BB15-117D3BD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0973-F1B6-4B1A-9C11-7C75324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9DFC-E0CE-40DE-B887-41FF3B2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F6B-EEDF-40E2-A1F8-FFA5D95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3303-4859-4755-B44B-B336A20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010B-E45C-4013-A531-874D622A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C34F-C9E1-4AE2-A39F-D6E27820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8D50-1AE5-4A71-B0F2-81128797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2A6B-1EF7-4453-A0DF-A2C82FC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2DF0-0EDB-4221-9FC8-1CA7112C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6B921-0608-46D2-92B8-ACD945DB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FDDB-F3CE-4332-BDBF-463EE21D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EF6A-FD03-4D73-877A-23512DD7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F8F94-A03A-4FF8-844C-5FED2E19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08D-B3CD-488D-88F7-0BADEC2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B7F1-155D-4D6E-ADB8-0AD3305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9B4A-EEBB-4107-9E9C-09BA86D5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09C93-70A6-423B-8166-66BB2ED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97FA-60DD-42F8-AA44-7A729A98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A86C5-FCD1-4C2B-8FBB-187D48A5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B22FC-2C3E-49E8-B928-9FF1E51C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87206-EAAC-4782-92AE-088C2BC6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5AD5C-3808-4BFE-A520-D705AFCE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72E20-7453-421B-A6DE-477FEDA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64315-6EAC-4927-8687-613375A8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807-6635-4AA4-86F7-3877804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58430-6828-4E55-B2C0-1DE1A8D5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AAD1-A430-4F84-BEF5-DF0A096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5149F-7CA2-4D89-A2E1-E9ABF88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0D36F-DAA5-42CA-91A3-F271EBC9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251CF-6E04-46DA-97B6-78BC76DE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AF9CF-027D-480C-9360-B0C4B2F3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2D9C-6BEC-40B9-A50E-DCE3B3CC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62280-547A-4244-874C-B76197BE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51942-365C-4F94-8343-4336270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35A0-6C78-42D1-AFC8-7A8A6D4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54CB-1877-40EF-BBCF-0F70874CA5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FCAD-271B-4518-9EF8-3EEF75414A8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FC11-9076-48C9-B863-A1B38A7C55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D9E-0E79-40A1-A466-35E1FFF25F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B6EF-7739-48AE-B5A2-CE949192597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DDE5-A509-4100-AA7D-1A341BF0277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85C-89AC-42F6-B2B4-3954D0C180D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DC61-9B7D-4F43-8E0B-27D826D3772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B623-789F-470D-A18B-7C9CB6C4159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63F-C026-43B1-9538-FD0AA2BFD6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952C-7F06-40A4-800E-AEB9446092F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2E73-290B-4597-94CE-1EAAC78C03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Elastična s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2"/>
          <p:cNvSpPr/>
          <p:nvPr/>
        </p:nvSpPr>
        <p:spPr>
          <a:xfrm>
            <a:off x="345600" y="1523880"/>
            <a:ext cx="7764120" cy="1099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teg rastegne oprugu tako da se ona produlji za 4 c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om silom djeluje uteg ako je konstanta opruge 100 N/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990720" y="2819520"/>
            <a:ext cx="441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4 cm = 0,0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00 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00 N/m · 0,0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4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Slika 1" descr=""/>
          <p:cNvPicPr/>
          <p:nvPr/>
        </p:nvPicPr>
        <p:blipFill>
          <a:blip r:embed="rId1"/>
          <a:stretch/>
        </p:blipFill>
        <p:spPr>
          <a:xfrm>
            <a:off x="304920" y="1012680"/>
            <a:ext cx="101592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311760" y="1371600"/>
            <a:ext cx="85201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va su to elastična tijela?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Nabroji neka elastična tije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elastična si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me mjerimo sil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mjerna jedinica za sil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produljenje opruge ovisi o si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 kojem principu radi dinamomet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 djelovanju sile od 3 N opruga se produlji za 1 c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će sila produljiti tu oprugu za 2 c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lika sila rastegne oprugu za 15cm ako je konstanta te opru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150N/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Slika 1" descr=""/>
          <p:cNvPicPr/>
          <p:nvPr/>
        </p:nvPicPr>
        <p:blipFill>
          <a:blip r:embed="rId1"/>
          <a:stretch/>
        </p:blipFill>
        <p:spPr>
          <a:xfrm>
            <a:off x="268200" y="838080"/>
            <a:ext cx="310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4"/>
          <p:cNvSpPr/>
          <p:nvPr/>
        </p:nvSpPr>
        <p:spPr>
          <a:xfrm>
            <a:off x="3808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zbiva s oprugom kad je rastegneš, a zatim pusti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a se tijela ponašaju slično opruz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362040" cy="2629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28638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571680" y="1000080"/>
            <a:ext cx="8343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Elastična tij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a koja se vraćaju u prvobitan oblik nakon prestan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jelovanja s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čelične opruge, gumene vrpc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"/>
          <p:cNvSpPr/>
          <p:nvPr/>
        </p:nvSpPr>
        <p:spPr>
          <a:xfrm>
            <a:off x="437760" y="3124080"/>
            <a:ext cx="86115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Elastična si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st sila kojom se opruga opire djelovanju vanjske sile, k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  rasteže ili stišće. Kada vanjska sila prestane djelova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pruga se pod djelovanjem elastične sile vraća u svoj prvobi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l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28600" y="1295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imo rastezanje opru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rcRect l="0" t="0" r="0" b="9832"/>
          <a:stretch/>
        </p:blipFill>
        <p:spPr>
          <a:xfrm>
            <a:off x="1447920" y="213372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8"/>
          <p:cNvSpPr/>
          <p:nvPr/>
        </p:nvSpPr>
        <p:spPr>
          <a:xfrm>
            <a:off x="377640" y="5029200"/>
            <a:ext cx="284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-  početna dul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-  opt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ena opr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-  produljenje opr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Slika 5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3"/>
          <p:cNvSpPr/>
          <p:nvPr/>
        </p:nvSpPr>
        <p:spPr>
          <a:xfrm>
            <a:off x="1180800" y="990720"/>
            <a:ext cx="65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e mjeren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prikazati i tabl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357200" y="2017800"/>
          <a:ext cx="6096240" cy="1479600"/>
        </p:xfrm>
        <a:graphic>
          <a:graphicData uri="http://schemas.openxmlformats.org/drawingml/2006/table">
            <a:tbl>
              <a:tblPr/>
              <a:tblGrid>
                <a:gridCol w="2032200"/>
                <a:gridCol w="1182600"/>
                <a:gridCol w="2881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a ut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ljenje opr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cm – 10 cm = 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cm – 10 cm = 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cm – 10 cm = 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523" name="TextBox 5"/>
          <p:cNvSpPr/>
          <p:nvPr/>
        </p:nvSpPr>
        <p:spPr>
          <a:xfrm>
            <a:off x="734760" y="3962520"/>
            <a:ext cx="78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zaključujemo o vezi između sile i produljenja opru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1644480" y="5000760"/>
            <a:ext cx="5664240" cy="82548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duljenje opruge razmjerno je sili k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jeluje na opru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9144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Grafički prikaz ovisnosti produljenja opruge o 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1177200" y="4876920"/>
            <a:ext cx="620964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o je puta veća sila koja rasteže oprug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liko je puta veće produljenje opru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419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4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Grafički prikaz rezultata produljenja za dv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azličite op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022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207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Hookeov zak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685080" y="2666880"/>
            <a:ext cx="161460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 = k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3291120" y="26668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ookeov za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Straight Arrow Connector 6"/>
          <p:cNvCxnSpPr/>
          <p:nvPr/>
        </p:nvCxnSpPr>
        <p:spPr>
          <a:xfrm>
            <a:off x="2666520" y="2971800"/>
            <a:ext cx="358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4" name="TextBox 7"/>
          <p:cNvSpPr/>
          <p:nvPr/>
        </p:nvSpPr>
        <p:spPr>
          <a:xfrm>
            <a:off x="582840" y="4929120"/>
            <a:ext cx="6557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stanta oprug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 ovisi o vrsti opru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N/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8"/>
          <p:cNvSpPr/>
          <p:nvPr/>
        </p:nvSpPr>
        <p:spPr>
          <a:xfrm>
            <a:off x="1251000" y="16765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duljenje opruge razmjerno je s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9"/>
          <p:cNvSpPr/>
          <p:nvPr/>
        </p:nvSpPr>
        <p:spPr>
          <a:xfrm>
            <a:off x="1720080" y="3929040"/>
            <a:ext cx="165564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 = l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– l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Straight Arrow Connector 10"/>
          <p:cNvCxnSpPr/>
          <p:nvPr/>
        </p:nvCxnSpPr>
        <p:spPr>
          <a:xfrm>
            <a:off x="3499920" y="4214880"/>
            <a:ext cx="358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TextBox 11"/>
          <p:cNvSpPr/>
          <p:nvPr/>
        </p:nvSpPr>
        <p:spPr>
          <a:xfrm>
            <a:off x="4019760" y="392904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duljenje op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586728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Dinamometar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709200" y="1676520"/>
            <a:ext cx="38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uređaj za mjerenje s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467160" cy="4743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dinamometri"/>
          <p:cNvPicPr/>
          <p:nvPr/>
        </p:nvPicPr>
        <p:blipFill>
          <a:blip r:embed="rId2"/>
          <a:stretch/>
        </p:blipFill>
        <p:spPr>
          <a:xfrm>
            <a:off x="304920" y="2209680"/>
            <a:ext cx="2190600" cy="2502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8"/>
          <p:cNvSpPr/>
          <p:nvPr/>
        </p:nvSpPr>
        <p:spPr>
          <a:xfrm>
            <a:off x="1913760" y="4343400"/>
            <a:ext cx="3186000" cy="1739880"/>
          </a:xfrm>
          <a:prstGeom prst="rect">
            <a:avLst/>
          </a:prstGeom>
          <a:noFill/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jutn ( znak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lonjutn kN = 10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3:55Z</dcterms:modified>
  <cp:revision>31</cp:revision>
  <dc:subject/>
  <dc:title>Slide 1</dc:title>
</cp:coreProperties>
</file>